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3DE5-7824-4F3B-B8A2-E0E5EE4DE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317C-B3E4-48B8-8D9A-14F3ED8C5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67E4-8B85-429C-9943-22443500B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BA61-A5DF-46A8-9BC2-037AE0B31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02B6F-6B87-4D03-8C35-6376ACD0B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E48CE-FDCF-45CE-875A-FF3625098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C7507-E806-4ECB-BCBD-8E4F6EB91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0B8E7-E0F5-4B80-9158-1193C3440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01422-E88F-4B64-B324-F60DED07D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04701-2C26-4078-839B-CBE615883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DB784-488D-4237-97AE-905DDAA42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9B4B-4F87-451F-8F0D-F6B7F11B4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383DF-A251-4A8D-8931-918360F3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0E08E-FC9F-453B-93C6-CC6D6F449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5521E-AA63-4E53-ACBD-1E2E22E42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117E0-2430-49A4-ACDC-3B5C35D96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96FD5-D8DD-4336-A1A8-C8412A214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108C-BD63-4217-B098-20F2A123D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0943-48EF-444A-8216-D2A0F2CBC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7B13-7F8D-451E-8270-DDC329127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CAB4-9F18-400A-9746-2D7EBD3BE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FFB0-FE05-4D09-B6E5-6A0A258C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9CA4-DEA5-4D8B-B3D2-F1224326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9FAC-10F1-404B-85BB-DF4DA85B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F164F-8421-4313-820C-E0D65DE21FC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0DC24-9CD8-48A7-8085-E02EC5DAAD1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freeplaymusic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hyperlink" Target="http://web.mit.edu/invent/iow/cooper.html" TargetMode="External"/><Relationship Id="rId4" Type="http://schemas.openxmlformats.org/officeDocument/2006/relationships/hyperlink" Target="http://web.mit.edu/invent/iow/cooper.html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914400" y="380880"/>
            <a:ext cx="7086600" cy="556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7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ffff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9900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JELL-O</a:t>
            </a:r>
            <a:endParaRPr b="0" lang="en-US" sz="1800" spc="1" strike="noStrike">
              <a:ln w="25560">
                <a:solidFill>
                  <a:srgbClr val="00ffff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9900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6" name=""/>
          <p:cNvSpPr/>
          <p:nvPr/>
        </p:nvSpPr>
        <p:spPr>
          <a:xfrm>
            <a:off x="5029200" y="4343400"/>
            <a:ext cx="41148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rand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nday, September 27,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iod 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uter 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76320" y="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952880" y="5943600"/>
            <a:ext cx="382608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usic: Free Play Music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Unbroken 30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, 10/4/2010, </a:t>
            </a:r>
            <a:r>
              <a:rPr b="0" lang="en-US" sz="18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www.freeplaymusic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vention: JELL-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elatin was discovered much earlier and was made by melted animal bon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oper discovered a new way to make i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 then sold it to Pearl Wait, and Wait named it “JELL-O.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ait then sold it to Francis Woodwar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 made JELL-O famous by commercials and chef endorsements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ventor: Peter Coop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oper was born on February 12, 1791 in New York City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e was an engineer and philanthropis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e invented the rotary steam engine, a musical cradle, different ways to create salt and glue, and a number of mining product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 1845, he obtained a patent for the manufacture of gelati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oper died on April 4, 1883 in New York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Cooper"/>
          <p:cNvPicPr/>
          <p:nvPr/>
        </p:nvPicPr>
        <p:blipFill>
          <a:blip r:embed="rId1"/>
          <a:stretch/>
        </p:blipFill>
        <p:spPr>
          <a:xfrm>
            <a:off x="6400800" y="0"/>
            <a:ext cx="2743200" cy="39625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Cooper"/>
          <p:cNvPicPr/>
          <p:nvPr/>
        </p:nvPicPr>
        <p:blipFill>
          <a:blip r:embed="rId2"/>
          <a:stretch/>
        </p:blipFill>
        <p:spPr>
          <a:xfrm>
            <a:off x="0" y="3962520"/>
            <a:ext cx="9144000" cy="28954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050840" y="533520"/>
            <a:ext cx="4283280" cy="25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melson MIT program,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Peter Cooper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9/29/2010,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http://web.mit.edu/invent/iow/cooper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533520"/>
            <a:ext cx="4283280" cy="25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melson MIT program,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Peter Cooper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9/29/2010,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4"/>
              </a:rPr>
              <a:t>http://web.mit.edu/invent/iow/cooper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7T17:34:08Z</dcterms:created>
  <dc:creator>install</dc:creator>
  <dc:description/>
  <dc:language>en-US</dc:language>
  <cp:lastModifiedBy>install</cp:lastModifiedBy>
  <dcterms:modified xsi:type="dcterms:W3CDTF">2010-10-13T17:50:47Z</dcterms:modified>
  <cp:revision>12</cp:revision>
  <dc:subject/>
  <dc:title>Slide 1</dc:title>
</cp:coreProperties>
</file>